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DAEB-32D4-4C25-BC45-0F6743E8F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ADCD-BE7E-4DE1-8456-BA4AEA91A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2CED-8AEB-474C-8063-C3AF728CF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4E6A-408C-424C-A6A2-0B0AC9FC3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F8C8-A6A6-42D4-9C6F-5D31D4A12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8ED6-3204-4494-B45E-06ABC91C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C8AF-0A1A-457B-ADBF-F10A39296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D34A-A601-496D-AA94-EFA32E77C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3456-6470-48EB-9F12-D9DFF7F93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E5EE-061D-4C56-A17C-EED5FA84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480F-BA2D-4039-9F2A-8C3F7D52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F32E-51A5-49FB-B359-7154054C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1017F-FEAC-4C22-A834-290F2748AAF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3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IMPERA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Practice </a:t>
            </a:r>
            <a:fld id="{1C518DA4-89D4-446D-B922-7E11F8AB1A45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428760" y="1357200"/>
            <a:ext cx="521496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κβαλλ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μετανοησ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ηρειτε τον νομ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γραψον αὐτῃ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κουετε την φωνη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4572000" y="2271600"/>
            <a:ext cx="40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row out! (continuous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4572000" y="288144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pent! (defaul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4572000" y="351144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eep (pl.) the law! (continuous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4572000" y="4102200"/>
            <a:ext cx="42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rite to her! (defaul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0"/>
          <p:cNvSpPr/>
          <p:nvPr/>
        </p:nvSpPr>
        <p:spPr>
          <a:xfrm>
            <a:off x="4572000" y="4737240"/>
            <a:ext cx="378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ar (pl.) the voice/sound (continuous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IMPERA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Practice </a:t>
            </a:r>
            <a:fld id="{39BF4AEC-BE39-4611-BB57-C7CD7AD44CB0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142920" y="1357200"/>
            <a:ext cx="5786280" cy="44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ζητησατε τον θε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ζητησετε τον θε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en (s.) the heaven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each (pl.) her! (continual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tie (pl.) the childr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4929120" y="2255760"/>
            <a:ext cx="40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ek (pl.) God! (defaul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4929120" y="287820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 (pl.) will seek G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6"/>
          <p:cNvSpPr/>
          <p:nvPr/>
        </p:nvSpPr>
        <p:spPr>
          <a:xfrm>
            <a:off x="4929120" y="3481560"/>
            <a:ext cx="4714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νοιξον τους οὐρανου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4929120" y="4086360"/>
            <a:ext cx="4214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ιδασκετε αὐτη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8"/>
          <p:cNvSpPr/>
          <p:nvPr/>
        </p:nvSpPr>
        <p:spPr>
          <a:xfrm>
            <a:off x="4929120" y="4680000"/>
            <a:ext cx="3786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υσατε τα τεκνα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1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INFINI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Practice </a:t>
            </a:r>
            <a:fld id="{5653BF7D-40EA-4AFF-82F1-F84CC3ADC817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42920" y="1357200"/>
            <a:ext cx="5786280" cy="44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θελεις βλεψα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ζητουμεν ἀκουει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ει περιπατει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μελλετε γραφει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o you (pl.) want to rep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s it necessary to love God?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4286160" y="2255760"/>
            <a:ext cx="40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o you (s.) wish to se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1"/>
          <p:cNvSpPr/>
          <p:nvPr/>
        </p:nvSpPr>
        <p:spPr>
          <a:xfrm>
            <a:off x="4286160" y="287820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are seeking to h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2"/>
          <p:cNvSpPr/>
          <p:nvPr/>
        </p:nvSpPr>
        <p:spPr>
          <a:xfrm>
            <a:off x="4286160" y="3481560"/>
            <a:ext cx="5214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 is necessary to walk about (live)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3"/>
          <p:cNvSpPr/>
          <p:nvPr/>
        </p:nvSpPr>
        <p:spPr>
          <a:xfrm>
            <a:off x="4286160" y="4086360"/>
            <a:ext cx="4214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 were about to write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4"/>
          <p:cNvSpPr/>
          <p:nvPr/>
        </p:nvSpPr>
        <p:spPr>
          <a:xfrm>
            <a:off x="4286160" y="4680000"/>
            <a:ext cx="3786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θελετε μετανοησα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5"/>
          <p:cNvSpPr/>
          <p:nvPr/>
        </p:nvSpPr>
        <p:spPr>
          <a:xfrm>
            <a:off x="4286160" y="5259240"/>
            <a:ext cx="3786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ει φιλειν τον θε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Practice </a:t>
            </a:r>
            <a:fld id="{73055692-60A8-4BFA-9509-2E3DC2BE6CC8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142920" y="1214280"/>
            <a:ext cx="57862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4286160" y="1785960"/>
            <a:ext cx="45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aptise the brothers! (or ‘you are baptising the brothers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4286160" y="264312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sten to him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4286160" y="3129120"/>
            <a:ext cx="521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 is permitted to speak? (or is speaking allow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4286160" y="3929040"/>
            <a:ext cx="42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 is necessary to speak to Timot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4286160" y="4714920"/>
            <a:ext cx="378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orship the holy God! (or ‘you are worshipping the holy God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4303800" y="588492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sten to him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196920" y="2443320"/>
            <a:ext cx="4572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κουσον αὐτ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214200" y="5710320"/>
            <a:ext cx="4572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κουσατε αὐτου.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232560" y="1616040"/>
            <a:ext cx="359892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απτιζετε τους ἀδελφο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213480" y="2970360"/>
            <a:ext cx="23601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ξεστι λαλησα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232920" y="3741840"/>
            <a:ext cx="33962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ει λεγειν τῳ Τιμοθεῳ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232920" y="4557600"/>
            <a:ext cx="385812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ροσκυνειτε τῳ ἁγιῳ θεῳ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1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INFINI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Practice </a:t>
            </a:r>
            <a:fld id="{87829FF8-31B6-4847-B98E-4D9AE5C27AC9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74520" y="1211400"/>
            <a:ext cx="4711680" cy="53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θελω πεμψαι ἀγγελο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μη ζητει ἀπολυσα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Do you (pl.) want to give thanks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Seek (pl.; continually) the good news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Do not walk (s.; in general in the temple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They are about to cry out, ‘Amen’.</a:t>
            </a:r>
            <a:r>
              <a:rPr b="0" lang="el-GR" sz="23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4"/>
          <p:cNvSpPr/>
          <p:nvPr/>
        </p:nvSpPr>
        <p:spPr>
          <a:xfrm>
            <a:off x="4714920" y="1728720"/>
            <a:ext cx="40003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I want to send a messenge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4714920" y="2309760"/>
            <a:ext cx="35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Do not seek to divorc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4714920" y="2859120"/>
            <a:ext cx="5214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θελετε εὐχαριστησαι</a:t>
            </a:r>
            <a:r>
              <a:rPr b="0" lang="en-GB" sz="23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4714920" y="3367080"/>
            <a:ext cx="4214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ζητειτε το εὐαγγελιον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8"/>
          <p:cNvSpPr/>
          <p:nvPr/>
        </p:nvSpPr>
        <p:spPr>
          <a:xfrm>
            <a:off x="4714920" y="4425840"/>
            <a:ext cx="3786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μη περιπατει ἐν τῳ ἱερ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4718160" y="5481720"/>
            <a:ext cx="3786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μελλουσιν κραξαι∙ Ἀμη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1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Practice </a:t>
            </a:r>
            <a:fld id="{A3676CCD-A7CB-4937-8FEF-8707549E67B7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4572000" y="2395440"/>
            <a:ext cx="4000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Present Plur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214200" y="1214280"/>
            <a:ext cx="5286600" cy="52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s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: all are masculine nomin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αλλοντε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εμψα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ιωξαντε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οιησα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γραφ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αρακαλ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ὑπαγοντε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κουσα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4572000" y="2928960"/>
            <a:ext cx="4000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Aorist Singul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7"/>
          <p:cNvSpPr/>
          <p:nvPr/>
        </p:nvSpPr>
        <p:spPr>
          <a:xfrm>
            <a:off x="4572000" y="3425760"/>
            <a:ext cx="4000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Aorist Plur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8"/>
          <p:cNvSpPr/>
          <p:nvPr/>
        </p:nvSpPr>
        <p:spPr>
          <a:xfrm>
            <a:off x="4572000" y="3932280"/>
            <a:ext cx="4000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Aorist Singul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9"/>
          <p:cNvSpPr/>
          <p:nvPr/>
        </p:nvSpPr>
        <p:spPr>
          <a:xfrm>
            <a:off x="4572000" y="4429080"/>
            <a:ext cx="4000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Present Singul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0"/>
          <p:cNvSpPr/>
          <p:nvPr/>
        </p:nvSpPr>
        <p:spPr>
          <a:xfrm>
            <a:off x="4572000" y="4929120"/>
            <a:ext cx="4000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Present Singul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1"/>
          <p:cNvSpPr/>
          <p:nvPr/>
        </p:nvSpPr>
        <p:spPr>
          <a:xfrm>
            <a:off x="4572000" y="5452920"/>
            <a:ext cx="4000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Present Plur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2"/>
          <p:cNvSpPr/>
          <p:nvPr/>
        </p:nvSpPr>
        <p:spPr>
          <a:xfrm>
            <a:off x="4572000" y="5964120"/>
            <a:ext cx="4000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Aorist Singul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1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Practice </a:t>
            </a:r>
            <a:fld id="{A64B07DD-D34B-4BDB-89C4-716B2F4662EE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9"/>
          <p:cNvSpPr/>
          <p:nvPr/>
        </p:nvSpPr>
        <p:spPr>
          <a:xfrm>
            <a:off x="214200" y="1187280"/>
            <a:ext cx="5786640" cy="52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βλεποντες ὑπηγ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κραξεν λεγω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βλεψας λεγει αὐτ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εριεπατουν τηρουντες                                 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ον νομ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κουσας τον λογον ἐδοξασα                                    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ον θε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4286160" y="2075040"/>
            <a:ext cx="485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s they looked they were going aw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5"/>
          <p:cNvSpPr/>
          <p:nvPr/>
        </p:nvSpPr>
        <p:spPr>
          <a:xfrm>
            <a:off x="4286160" y="258300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e cried out (while) saying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6"/>
          <p:cNvSpPr/>
          <p:nvPr/>
        </p:nvSpPr>
        <p:spPr>
          <a:xfrm>
            <a:off x="4286160" y="3157560"/>
            <a:ext cx="521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en he saw (him), he says to h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7"/>
          <p:cNvSpPr/>
          <p:nvPr/>
        </p:nvSpPr>
        <p:spPr>
          <a:xfrm>
            <a:off x="4286160" y="3700440"/>
            <a:ext cx="421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y were living keeping the la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8"/>
          <p:cNvSpPr/>
          <p:nvPr/>
        </p:nvSpPr>
        <p:spPr>
          <a:xfrm>
            <a:off x="4286160" y="4822920"/>
            <a:ext cx="378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fter I heard the message, I glorified G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9"/>
          <p:cNvSpPr/>
          <p:nvPr/>
        </p:nvSpPr>
        <p:spPr>
          <a:xfrm>
            <a:off x="4286160" y="5813280"/>
            <a:ext cx="378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en they believed, they repen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0"/>
          <p:cNvSpPr/>
          <p:nvPr/>
        </p:nvSpPr>
        <p:spPr>
          <a:xfrm>
            <a:off x="235080" y="5762520"/>
            <a:ext cx="345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ιστευσαντες μετενοησα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Box 1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Practice </a:t>
            </a:r>
            <a:fld id="{6D682AC9-EDF7-4A7E-814C-5BA1CB77CCB2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4"/>
          <p:cNvSpPr/>
          <p:nvPr/>
        </p:nvSpPr>
        <p:spPr>
          <a:xfrm>
            <a:off x="214200" y="125244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6"/>
          <p:cNvSpPr/>
          <p:nvPr/>
        </p:nvSpPr>
        <p:spPr>
          <a:xfrm>
            <a:off x="285840" y="1857240"/>
            <a:ext cx="8643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νοιξαντες τους ὀφθαλμους αὐτων ἐβλεψαν την θαλασσα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7"/>
          <p:cNvSpPr/>
          <p:nvPr/>
        </p:nvSpPr>
        <p:spPr>
          <a:xfrm>
            <a:off x="285840" y="3063960"/>
            <a:ext cx="8215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εγων τῳ ὀχλῳ ὁ ἀποστολος ἐθεωρει τον οὐραν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8"/>
          <p:cNvSpPr/>
          <p:nvPr/>
        </p:nvSpPr>
        <p:spPr>
          <a:xfrm>
            <a:off x="285840" y="4214880"/>
            <a:ext cx="8429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γραφας το βιβλιον ὁ Πετρος ἐπεμψεν αὐτο τῃ ἐκκλησια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9"/>
          <p:cNvSpPr/>
          <p:nvPr/>
        </p:nvSpPr>
        <p:spPr>
          <a:xfrm>
            <a:off x="285840" y="5286240"/>
            <a:ext cx="70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fter proclaiming the word, they worshipped Go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0"/>
          <p:cNvSpPr/>
          <p:nvPr/>
        </p:nvSpPr>
        <p:spPr>
          <a:xfrm>
            <a:off x="928800" y="2428920"/>
            <a:ext cx="757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fter they opened their eyes, they saw the s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1"/>
          <p:cNvSpPr/>
          <p:nvPr/>
        </p:nvSpPr>
        <p:spPr>
          <a:xfrm>
            <a:off x="285840" y="3571920"/>
            <a:ext cx="88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ile speaking to the crowd the apostle was looking at heav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2"/>
          <p:cNvSpPr/>
          <p:nvPr/>
        </p:nvSpPr>
        <p:spPr>
          <a:xfrm>
            <a:off x="928800" y="4714920"/>
            <a:ext cx="88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n he had written the book, Peter sent it for the chur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3"/>
          <p:cNvSpPr/>
          <p:nvPr/>
        </p:nvSpPr>
        <p:spPr>
          <a:xfrm>
            <a:off x="973080" y="5778360"/>
            <a:ext cx="785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ηρυξαντες τον λογον προσεκυνησαν τῳ θεῳ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1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5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ARTICIPLES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S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Practice </a:t>
            </a:r>
            <a:fld id="{D81E716A-DA01-4842-B83D-FA91A2EAE8EC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3"/>
          <p:cNvSpPr/>
          <p:nvPr/>
        </p:nvSpPr>
        <p:spPr>
          <a:xfrm>
            <a:off x="214200" y="121428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4"/>
          <p:cNvSpPr/>
          <p:nvPr/>
        </p:nvSpPr>
        <p:spPr>
          <a:xfrm>
            <a:off x="299880" y="1812960"/>
            <a:ext cx="7143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πεμψας αὐτον σωζε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5"/>
          <p:cNvSpPr/>
          <p:nvPr/>
        </p:nvSpPr>
        <p:spPr>
          <a:xfrm>
            <a:off x="285840" y="2921040"/>
            <a:ext cx="7143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μακαριος ἐστιν ὁ βλεπων τον θε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6"/>
          <p:cNvSpPr/>
          <p:nvPr/>
        </p:nvSpPr>
        <p:spPr>
          <a:xfrm>
            <a:off x="285840" y="4000680"/>
            <a:ext cx="7143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ἱ μαρτυρουντες κηρυξουσι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7"/>
          <p:cNvSpPr/>
          <p:nvPr/>
        </p:nvSpPr>
        <p:spPr>
          <a:xfrm>
            <a:off x="303120" y="5086440"/>
            <a:ext cx="7143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πιστευων λεγει την εἰρηνη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8"/>
          <p:cNvSpPr/>
          <p:nvPr/>
        </p:nvSpPr>
        <p:spPr>
          <a:xfrm>
            <a:off x="2357280" y="2286000"/>
            <a:ext cx="55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one who sent him sa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9"/>
          <p:cNvSpPr/>
          <p:nvPr/>
        </p:nvSpPr>
        <p:spPr>
          <a:xfrm>
            <a:off x="2357280" y="3525840"/>
            <a:ext cx="55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one who sees God is bles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0"/>
          <p:cNvSpPr/>
          <p:nvPr/>
        </p:nvSpPr>
        <p:spPr>
          <a:xfrm>
            <a:off x="785880" y="458316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ones who bear witness (or ‘the witnesses’) will prea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1"/>
          <p:cNvSpPr/>
          <p:nvPr/>
        </p:nvSpPr>
        <p:spPr>
          <a:xfrm>
            <a:off x="2357280" y="5643720"/>
            <a:ext cx="55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believer speaks pe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17:01:18Z</dcterms:created>
  <dc:creator>Sarah</dc:creator>
  <dc:description/>
  <dc:language>en-US</dc:language>
  <cp:lastModifiedBy>Sarah</cp:lastModifiedBy>
  <dcterms:modified xsi:type="dcterms:W3CDTF">2008-09-07T14:36:25Z</dcterms:modified>
  <cp:revision>36</cp:revision>
  <dc:subject/>
  <dc:title>Slide 1</dc:title>
</cp:coreProperties>
</file>